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8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5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7A311EBF-ADF0-4C47-AF16-79791220A75F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96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3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1027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37A178EA-547F-4499-94A1-397BA0D01894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8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068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1134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50AC71B2-92A9-4C49-A44B-13CB6F6346AD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ftr" idx="9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4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75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7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9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1241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7C99A5CD-14C6-4432-8420-DD273B41D626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 type="ftr" idx="10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7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8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R:\Templates &amp; Logos\Logos\FEFE Logos from Debra Bowles\FEFE Logo Clear Background.png"/>
          <p:cNvPicPr/>
          <p:nvPr/>
        </p:nvPicPr>
        <p:blipFill>
          <a:blip r:embed="rId2"/>
          <a:stretch/>
        </p:blipFill>
        <p:spPr>
          <a:xfrm>
            <a:off x="1523880" y="6035760"/>
            <a:ext cx="1067040" cy="593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R:\TCAI\Templates &amp; Logos\Logos\TCAI ICON_final.png"/>
          <p:cNvPicPr/>
          <p:nvPr/>
        </p:nvPicPr>
        <p:blipFill>
          <a:blip r:embed="rId3"/>
          <a:stretch/>
        </p:blipFill>
        <p:spPr>
          <a:xfrm>
            <a:off x="6629400" y="6264360"/>
            <a:ext cx="1690560" cy="3110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212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FE2AF89E-6C54-477B-A0D8-6B85AA6BB33A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ftr" idx="1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319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CBA5BB30-0658-412B-8879-B61D9D940A6F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ftr" idx="2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426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6CDDCEAD-92E9-4817-ADEB-52B158A7BDA5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ftr" idx="3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533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54E0F256-FBAB-45FF-B55D-461D65A58D4A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ftr" idx="4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640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706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C6158471-E7DF-4907-AA62-6A19EDD74D83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ftr" idx="5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747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813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4EF9C9A7-1D21-444B-9886-DE4B211317DA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ftr" idx="6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854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6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920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83999FD1-B8BF-4470-B2E1-4451301BEC93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ftr" idx="7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779400" y="608040"/>
            <a:ext cx="767880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pperplate Gothic Light"/>
              </a:rPr>
              <a:t>Shopping for an Automobile Loan</a:t>
            </a:r>
            <a:endParaRPr b="1" lang="en-US" sz="6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12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aur"/>
              </a:rPr>
              <a:t>What Do I Need to Know?</a:t>
            </a: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283" name="Picture 5" descr="TN00552_"/>
          <p:cNvPicPr/>
          <p:nvPr/>
        </p:nvPicPr>
        <p:blipFill>
          <a:blip r:embed="rId1"/>
          <a:stretch/>
        </p:blipFill>
        <p:spPr>
          <a:xfrm>
            <a:off x="1447920" y="4267080"/>
            <a:ext cx="3362040" cy="1495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6"/>
          <p:cNvSpPr/>
          <p:nvPr/>
        </p:nvSpPr>
        <p:spPr>
          <a:xfrm>
            <a:off x="5189040" y="0"/>
            <a:ext cx="42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Using Financial Calc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837720" y="8535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The Truth in Lending Ac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ree basic rules for lenders: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Centa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Lenders cannot advertise a good deal which is not available to all consume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Centa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dvertisements must include all or none of the term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Centa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f more than 4 installments are required to pay for the good or service, the agreement must say “The cost of credit is included in the price quoted for goods and services”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761760" y="312840"/>
            <a:ext cx="83818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pperplate Gothic Light"/>
              </a:rPr>
              <a:t>The Truth in Lending Act continued</a:t>
            </a:r>
            <a:endParaRPr b="1" lang="en-US" sz="4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Lenders must disclose to consumers: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nterest rate expressed as the APR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Total finance charg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llows consumers to easily compare credit offe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779400" y="608040"/>
            <a:ext cx="767880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pperplate Gothic Light"/>
              </a:rPr>
              <a:t>What’s the Real Price?</a:t>
            </a:r>
            <a:endParaRPr b="1" lang="en-US" sz="6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1309" name="Picture 6" descr="j0212735"/>
          <p:cNvPicPr/>
          <p:nvPr/>
        </p:nvPicPr>
        <p:blipFill>
          <a:blip r:embed="rId1"/>
          <a:stretch/>
        </p:blipFill>
        <p:spPr>
          <a:xfrm>
            <a:off x="5105520" y="3505320"/>
            <a:ext cx="175896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Variables of a Loan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Negotiated Price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rice being paid for the automobile agreed upon by the seller and buyer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Down Paymen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mount of money being paid for the automobile at time of purchase 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Usually required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Variable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rade-In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mount of money received for trading in an automobil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Trade-in amount is subtracted from the negotiated price of the automobil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rincipal Loan Amoun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mount of the loan for the automobile after subtracting the down payment and/or trade-in price from the negotiated price 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Without interest and fee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Variable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nnual Percentage Rate (APR)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Measure of the cost of credit on a yearly basis expressed as a percentag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ime Period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mount of time the loan will be repaid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Usually expressed in month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onclusion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912600" y="2133720"/>
            <a:ext cx="8110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ompare all offers and variables before signing an agreement!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hanging a variable can either save the consumer money or he/she may end up paying much more than anticipated!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318" name="Picture 8" descr="j0078625[1]"/>
          <p:cNvPicPr/>
          <p:nvPr/>
        </p:nvPicPr>
        <p:blipFill>
          <a:blip r:embed="rId1"/>
          <a:stretch/>
        </p:blipFill>
        <p:spPr>
          <a:xfrm>
            <a:off x="7467480" y="228600"/>
            <a:ext cx="59688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Automobile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912960" y="2209680"/>
            <a:ext cx="55641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aur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 most expensive purchase for most consume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urchased with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Loan / credit – very commo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287" name="Picture 7" descr="j0212833"/>
          <p:cNvPicPr/>
          <p:nvPr/>
        </p:nvPicPr>
        <p:blipFill>
          <a:blip r:embed="rId1"/>
          <a:stretch/>
        </p:blipFill>
        <p:spPr>
          <a:xfrm>
            <a:off x="6172200" y="2666880"/>
            <a:ext cx="180972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779400" y="608040"/>
            <a:ext cx="767880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pperplate Gothic Light"/>
              </a:rPr>
              <a:t>Automobile Loans</a:t>
            </a:r>
            <a:endParaRPr b="1" lang="en-US" sz="6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1289" name="Picture 6" descr="j0279106"/>
          <p:cNvPicPr/>
          <p:nvPr/>
        </p:nvPicPr>
        <p:blipFill>
          <a:blip r:embed="rId1"/>
          <a:stretch/>
        </p:blipFill>
        <p:spPr>
          <a:xfrm>
            <a:off x="4648320" y="3276720"/>
            <a:ext cx="286380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Definition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Auto Loan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– borrowed money to purchase an automobile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erms of the loan will vary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Lender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– a financial institution who offers loans to consumer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Credit Rating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– evaluation of a person’s credit history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Based on repayment patterns, prior credit usage, credit history, length of employmen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Definition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Cosigner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 – a person who guarantees the loan for the original borrower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Responsible for paying the debt back if the original borrower </a:t>
            </a: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defaul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Borrower fails to make payments of principal or interest when due and has not met other requirements of the legal contract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 cosigner may be required for a loan if the original borrower does not have a credit history or has a bad credit rating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ommon for parents to cosign for young adul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Definition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ecured Loan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– requires a cosigner or </a:t>
            </a: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collateral 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 loan with collateral means the lender has security interest in the property pledged as collateral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utomobile loans are secured because the automobile is typically the collateral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f the borrower fails to repay the loan, the lender can then seize the collateral by repossessing, or taking back, the property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Lender Option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6478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uto Deale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ommercial Bank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Savings and Loan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redit Union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Online lende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Life Insurance Polici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uto Insurance Compani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298" name="Picture 4" descr="j0185918"/>
          <p:cNvPicPr/>
          <p:nvPr/>
        </p:nvPicPr>
        <p:blipFill>
          <a:blip r:embed="rId1"/>
          <a:stretch/>
        </p:blipFill>
        <p:spPr>
          <a:xfrm>
            <a:off x="5410080" y="2895480"/>
            <a:ext cx="2210040" cy="15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Lender Option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redit Unions traditionally offer low APR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uto dealer financing may be easier, but not always the best dea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Remember – compare every variable to decide best option for consumer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onsumer Right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e Truth in Lending Act - 1968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art of the Consumer Protection Ac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pplies to all credit transaction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Mortgages, credit cards, loans, etc.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Requires clear disclosure of key terms and all costs in lending agreement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303" name="Picture 4" descr="SY00570_[1]"/>
          <p:cNvPicPr/>
          <p:nvPr/>
        </p:nvPicPr>
        <p:blipFill>
          <a:blip r:embed="rId1"/>
          <a:stretch/>
        </p:blipFill>
        <p:spPr>
          <a:xfrm>
            <a:off x="7086600" y="2362320"/>
            <a:ext cx="1400040" cy="117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7:21:28Z</dcterms:created>
  <dc:creator>Spicher</dc:creator>
  <dc:description/>
  <dc:language>en-US</dc:language>
  <cp:lastModifiedBy>NHBOE</cp:lastModifiedBy>
  <dcterms:modified xsi:type="dcterms:W3CDTF">2013-02-19T22:15:18Z</dcterms:modified>
  <cp:revision>138</cp:revision>
  <dc:subject/>
  <dc:title>Shopping for a Car Loan</dc:title>
</cp:coreProperties>
</file>